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85CF-3906-4CE5-A61B-CED1EDB2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7342-7603-4613-8FFE-413169B7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28B-21AB-4585-A970-28E8AA90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C7E-7721-4551-B92F-E23FFB75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4185-27F6-451F-A2F6-2B2A1080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B6F0-66B0-42C2-920D-ED938649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D9D6-4BC5-4D10-BE80-DC946DE8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70A6-8EBA-4807-B1BF-93367E56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4622-E0BE-4F38-9498-ED09EF33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85B9-1E16-47A6-B8D1-E2A003CE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C6A-8CC7-4895-AD65-E925FD5A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4546-AF0E-4087-AE1F-96E770E5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6999-13CF-4781-9C55-B008C0D5A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hyperlink" Target="http://www.freeplaymusic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eb.mit.edu/invent/iow/nobel.html" TargetMode="External"/><Relationship Id="rId3" Type="http://schemas.openxmlformats.org/officeDocument/2006/relationships/image" Target="../media/image1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90920" y="762120"/>
            <a:ext cx="411480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DYNAMITE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6172200" y="457200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15000" y="502920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bias D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15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276360" cy="2130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34320" y="1981080"/>
            <a:ext cx="1757160" cy="1954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57600" y="42670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Alfred Nob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248520"/>
            <a:ext cx="4724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imator 30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9/23/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Adler"/>
          <p:cNvPicPr/>
          <p:nvPr/>
        </p:nvPicPr>
        <p:blipFill>
          <a:blip r:embed="rId1"/>
          <a:stretch/>
        </p:blipFill>
        <p:spPr>
          <a:xfrm>
            <a:off x="228600" y="1593720"/>
            <a:ext cx="8305920" cy="256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66680" y="4648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fred Nobe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. 19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nobe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76212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fred Nobel invented Dynam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629400" y="4952880"/>
            <a:ext cx="2286000" cy="1486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481880" y="0"/>
            <a:ext cx="125100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5410080"/>
            <a:ext cx="1397160" cy="1447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152280" y="457200"/>
            <a:ext cx="124956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Dynam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64, Alfred Nobel founded Nitroglycerin AB in Stockholm, Swe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65, he built the Alfred Nobel CO. factory in Krumel near Hamburg, Germ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66, he established the United States Blasting Oil company in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70, he established the societe general pour la fabrication de la dynamite in Paris, F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50000" y="5334120"/>
            <a:ext cx="96228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5316480"/>
            <a:ext cx="917640" cy="1236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467480" y="304920"/>
            <a:ext cx="860400" cy="1158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85800" y="152280"/>
            <a:ext cx="1030320" cy="138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Alfred No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fred Nobel was born in October 21,183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fred Nobel was born in Stockholm, Swe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lfred Nobel was nine he moved to Rus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fred learned to speak Swedish, Russian, French, English, and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fred Nobel died in 189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248520" y="5272200"/>
            <a:ext cx="2520720" cy="1585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074600" cy="1447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57200" y="228600"/>
            <a:ext cx="917640" cy="1235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80880" y="5791320"/>
            <a:ext cx="79236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4:00:33Z</dcterms:created>
  <dc:creator>install</dc:creator>
  <dc:description/>
  <dc:language>en-US</dc:language>
  <cp:lastModifiedBy>install</cp:lastModifiedBy>
  <dcterms:modified xsi:type="dcterms:W3CDTF">2011-09-26T13:56:41Z</dcterms:modified>
  <cp:revision>7</cp:revision>
  <dc:subject/>
  <dc:title>Slide 1</dc:title>
</cp:coreProperties>
</file>